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D75-586C-4F98-8489-50C3A67F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3BE-5CEE-4F46-9458-72241B6D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B18-87C1-4699-A2E7-3D91750C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2BE-B25E-4EBA-8C56-D0425684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A1B5-0CAC-4436-A474-2E92C29D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9DBE-07AD-4074-832F-4E238F50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B850-23BF-40FC-B4D3-BF5018BF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B3FE-4B38-4177-8FEB-4083AD0E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53B2-AA83-46C4-A6D7-141EAA47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18FD-20CA-4F25-8C10-ACF28A82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7D31-9982-481D-B459-8A453E96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8C4-22DF-4AE1-B139-BB18757E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268C-BA19-4431-A01C-A4ABC977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2FDE-1153-4D6B-86DA-6BCA644C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CD33-43CE-4493-B685-949C4CB1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6ACB-673A-4F64-8643-1BF5C7D4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DA18-F305-4730-86F8-4E8076BC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2F1-14BA-4DF9-9561-CEDD1B67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949-D82C-4539-AD7A-6E7EAA9E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929-5F55-4DD1-A39A-A97286FB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04B-5DF2-4BDF-BD2A-A118BD83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EFA-A834-4D69-B308-7B060FA2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04E-142E-4B4A-A7C5-E4F9DED5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F48-A322-45CE-B69D-7FB7192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574F-0AB0-4274-BEA6-6180B697AE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3682-E513-4918-B314-9D4DA9A87B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veloping Reading Skill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pproaches to Learning and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ext aga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first stage questions to develop scanning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second stage questions which include: comprehension, interpretation, evaluation and personal respon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third stage questions to develop vocabul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reading activities go beyond the text to encourage students to make connections between what they have read and their own experiences and to other areas of learning 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reading activities might include a discussion, a task, a writing activity, a role-play – pretty much anythin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sign a post-reading task for the languages text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erlying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ing approach should match reading purpo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is a difference between a reading text used to present new grammar and vocabulary and one used to develop reading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s do not need to understand every word to get the meaning of a text, but they do need understand a lot of wor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phisticated readers transfer reading skills from one language to another; less sophisticated readers may no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ey Vocabular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kimm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for g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cann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- for particular pieces of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Intensive read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closely to find out as much as poss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Extensive read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broadly for general interest or fu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chemata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information an individual stores which can be drawn upon to understand texts (Schema Theor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Top down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holistically, using prediction, schemata and genre (amongst other things) to understand the tex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Bottom up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understanding each word, sentence, paragraph so that the text is understo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ing a reading skills les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cide on the reading purp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cide what skill(s) you are trying to impr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nk about activating learners’ schem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member that if the text is too difficult, learners will strug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nk about introducing top down and bottom up activ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Fl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skills lessons are often divided into the following s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read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-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ead learners into the 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motivate them to read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provide a context for the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duce anxiety about th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1055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You migh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w the title/headline and ask for predictions of text cont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cit what learners know about the theme/topic (brainstor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w some pictures and ask the learners to guess what order they go in in the text or ask students to predict the 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-teach difficult vocabula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 an outline of the text or some useful information about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are going to use the text with an intermediate class to practice scanning ski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pre-reading activities would you s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le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vities for while reading are usually in three stages:  activities to encourage students to get an overall understanding of the text; those which encourage students to work out more detailed meanings; and those which focus on particular grammar or vocabul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stage questions might include skimming or scanning ques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stage questions might include comprehension questions, questions of interpretation, evaluation and personal respon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stage questions might include finding synonyms, looking at grammatical patterns, identifying discourse mark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0T12:21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